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156-CC33-40F0-962F-F17A3487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ADC-C01D-435A-8C10-443E7292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C65-F37C-4D89-BBAF-BB40BCFF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196-11E0-4D09-A243-7AAC4F56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786-C840-4FA4-9504-C5A46C3C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295-A1F7-42EC-8921-E7E80EF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E0B-A148-473D-98BC-D267A05B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FAA-2746-499B-B22E-B6FB6E05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D2B-D065-4893-810D-7956445A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D78-1AA8-489D-8FD7-E34E399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221-3F12-4210-9DD7-440346F9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972-AB70-4172-B51F-BACB8A80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188A-39B2-4700-9950-A4B6EF81F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Dynamic Modeling of Beat-to-Beat QT-RR Data Using the Bootstrap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mberly Crim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Clinical Stat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fizer, In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gust 8,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8360" y="6149880"/>
            <a:ext cx="901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from one dog; each pt is a heart beat; displayed in 15 sec inc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ue pts are baseline; Red pts are after administration of E-40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e4031317" descr=""/>
          <p:cNvPicPr/>
          <p:nvPr/>
        </p:nvPicPr>
        <p:blipFill>
          <a:blip r:embed="rId1"/>
          <a:stretch/>
        </p:blipFill>
        <p:spPr>
          <a:xfrm>
            <a:off x="533520" y="0"/>
            <a:ext cx="80200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Analysis of Beat-to-Beat Data Step 1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66680" y="3200400"/>
            <a:ext cx="6546960" cy="3273480"/>
            <a:chOff x="1066680" y="3200400"/>
            <a:chExt cx="6546960" cy="32734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066680" y="3460680"/>
              <a:ext cx="654696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054160" y="3200400"/>
              <a:ext cx="5361120" cy="45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itroprus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07440" y="1752480"/>
            <a:ext cx="79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fter administration of drug is divided in “clou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uds represent contiguous QT-RR data from a block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imum changes in hemodynamics between clouds but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modynamics within a clo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Analysis of Beat-to-Beat Data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Step 2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69" name="nitro.cloud2" descr=""/>
          <p:cNvPicPr/>
          <p:nvPr/>
        </p:nvPicPr>
        <p:blipFill>
          <a:blip r:embed="rId1"/>
          <a:stretch/>
        </p:blipFill>
        <p:spPr>
          <a:xfrm>
            <a:off x="3914640" y="2114640"/>
            <a:ext cx="5229360" cy="4743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16920" y="1471680"/>
            <a:ext cx="32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al: estimate QT dist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ween two clouds of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93040" y="1523880"/>
            <a:ext cx="375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ints are baselin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ints are post-dos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2209680"/>
            <a:ext cx="393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ble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T interval is dependent on 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a 1-to-1 relationship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oints in the two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9" idx="2"/>
            <a:endCxn id="69" idx="2"/>
          </p:cNvCxnSpPr>
          <p:nvPr/>
        </p:nvCxnSpPr>
        <p:spPr>
          <a:xfrm>
            <a:off x="652896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" name=""/>
          <p:cNvSpPr/>
          <p:nvPr/>
        </p:nvSpPr>
        <p:spPr>
          <a:xfrm flipV="1">
            <a:off x="5638680" y="22856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943600" y="22856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5440" y="518148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point in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in QT is –2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657600"/>
            <a:ext cx="38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pos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the RR axis into windows of length X 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in each window, for each point in post-dose cloud, compute distance to median baseline QT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distances across RR wind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otstrap used for estimate and error of overall QT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xperiment Description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143000"/>
            <a:ext cx="80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Dog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Treatmen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itroprusside – Safe compound – induces tachycar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-4031 – Prolongs QT associated with T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enylephrine – induces bradycar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h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ximately 10 minutes of baselin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47920" y="4343400"/>
          <a:ext cx="6095880" cy="2286000"/>
        </p:xfrm>
        <a:graphic>
          <a:graphicData uri="http://schemas.openxmlformats.org/drawingml/2006/table">
            <a:tbl>
              <a:tblPr/>
              <a:tblGrid>
                <a:gridCol w="1600200"/>
                <a:gridCol w="1904760"/>
                <a:gridCol w="2590920"/>
              </a:tblGrid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troprus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-4031, PE, Veh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-2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-4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3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8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4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-12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5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-16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-8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-20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85880" y="373392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ep 1: Define the clo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Step 2 – Example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Nitroprusside Data – Cloud B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83" name="nitro.cloud2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229360" cy="474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1080" y="2100240"/>
            <a:ext cx="221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in 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Tbtb = -35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Tc,i  =  -7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Tc,f =   12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Tc,b =   53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720" y="4419720"/>
            <a:ext cx="319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Tbtb: Estimate 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at-to-b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Tc,i : Estima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vidual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Tc,f : Estimate 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idericia’s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Tc,b : Estima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zett’s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Step 2 – Example 2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Nitroprusside Data – Cloud E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87" name="nitro.cloud5" descr=""/>
          <p:cNvPicPr/>
          <p:nvPr/>
        </p:nvPicPr>
        <p:blipFill>
          <a:blip r:embed="rId1"/>
          <a:stretch/>
        </p:blipFill>
        <p:spPr>
          <a:xfrm>
            <a:off x="3510000" y="1805040"/>
            <a:ext cx="5324400" cy="4848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5920" y="2443320"/>
            <a:ext cx="2152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in 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Tbtb =   5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Tc,i  =   1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Tc,f =  -9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Tc,b = -18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xample Results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90" name="results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5257800" cy="52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19720" y="6248520"/>
            <a:ext cx="449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Tbtb: Bootstrap Estimate; QTc,F : Fridericia’s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Tc,b : Bazett’s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7480" y="1741320"/>
            <a:ext cx="3669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-403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method detect increase 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tude is smaller with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4920" y="3048120"/>
            <a:ext cx="3700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itroprusside (induces tachycardi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rrection factor methods det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ase in Clouds A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Tbtb detect decrease in Cloud A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8920" y="4343400"/>
            <a:ext cx="366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enylephrine (induces bradycard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Tbtb detects slight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rrection factors detect de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Sensitivity Analysis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00760" y="251460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window sizes were included in stud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, 10, 25, 50, 100, 150, 200, 250,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9440" y="1476360"/>
            <a:ext cx="79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determine how sensitive the results are to th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the RR window, a sensitivity analysis was condu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6560" y="350532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from previous experiment wa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5840" y="4191120"/>
            <a:ext cx="84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mpound, data were analyzed as a split-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, with random effects dog dog*cloud dog*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Sensitivity Analysis Results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4114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-4031 Resul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significant window by clou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 window eff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ificant cloud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238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itroprusside Resul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ificant window by cloud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ificant window and cloud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e4031.nitro.lsmeans" descr=""/>
          <p:cNvPicPr/>
          <p:nvPr/>
        </p:nvPicPr>
        <p:blipFill>
          <a:blip r:embed="rId1"/>
          <a:stretch/>
        </p:blipFill>
        <p:spPr>
          <a:xfrm>
            <a:off x="4048200" y="1219320"/>
            <a:ext cx="5095800" cy="524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0480" y="5475240"/>
            <a:ext cx="38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-4031 does not affect autonomic 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2480" y="2590920"/>
            <a:ext cx="401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itro induces reflex tachycardia; cl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is most sensitive to window size; cl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largest increase in HR; In cloud B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fference in window sizes 2-100 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… </a:t>
            </a: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Results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7" name="veh.pe.lsmeans" descr=""/>
          <p:cNvPicPr/>
          <p:nvPr/>
        </p:nvPicPr>
        <p:blipFill>
          <a:blip r:embed="rId1"/>
          <a:stretch/>
        </p:blipFill>
        <p:spPr>
          <a:xfrm>
            <a:off x="3990960" y="1371600"/>
            <a:ext cx="5153040" cy="521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523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hicle Resul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ificant window by cloud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significant window and cloud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14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enylephrine Resul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ificant window by cloud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ificant window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significant cloud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6480" y="2766960"/>
            <a:ext cx="354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significant differences betw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ndow sizes within each cl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960" y="5410080"/>
            <a:ext cx="3819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significant differences betw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ndow sizes within clouds B &amp;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clouds A, C, &amp; D no signific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fferences in window sizes 25-25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ther Contributors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283280" y="2133720"/>
            <a:ext cx="36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Pharma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hony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dd Wisialow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xanne Win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c Wolf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iam Gorczy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4840" y="2209680"/>
            <a:ext cx="21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ve Raun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ilyn A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Wrap-Up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the Bootstrap method to analyze the dynamic beat-to-beat data, we can estimate the change in QT despite changes in autonomic st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 robust to RR window size:  No difference in estimate of QT prolongation using window size between 25 and 100 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ology is easily transferable to digitized human Holter systems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towards determining the arrhythmogenic risk of compounds by investigating dynamic restitu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the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Traditional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 Beat-to-Beat QT-RR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and 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sitivity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ap-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QT Interval on Surface ECG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5257800"/>
            <a:ext cx="594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wave reflects atrial de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RS complex reflects ventricular de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wave reflects ventricular re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5920" y="6324480"/>
            <a:ext cx="64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T interval is duration of depolarization and re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ew%20ecg%204_18_2000" descr=""/>
          <p:cNvPicPr/>
          <p:nvPr/>
        </p:nvPicPr>
        <p:blipFill>
          <a:blip r:embed="rId1"/>
          <a:srcRect l="13337" t="0" r="0" b="0"/>
          <a:stretch/>
        </p:blipFill>
        <p:spPr>
          <a:xfrm>
            <a:off x="1523880" y="990720"/>
            <a:ext cx="6324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Why is QT Prolongation Important?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rsades de Pointes (TdP) is a ventricular tachycardia which may cause fatal cardiac arrest or sudden de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dP is characterized by an abnormally prolonged QT preceding tachycard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ulators use QTc prolongation as biomarkers for Td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raditional Methods to Measure QT Prolongation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T has an inverse relationship with HR and HR has an inverse relationship with R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T is corrected for HR assuming a linear relationship, QT=f(R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c is the parameter to estimate, slope from regressing QT onto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different correction factor methods, for examp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zett’s: QTc = QT/R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idericia: QTc=QT/R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al correction fa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59760" y="2743200"/>
            <a:ext cx="74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Dynamic Beat-to-Beat QT/RR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itro318" descr=""/>
          <p:cNvPicPr/>
          <p:nvPr/>
        </p:nvPicPr>
        <p:blipFill>
          <a:blip r:embed="rId1"/>
          <a:stretch/>
        </p:blipFill>
        <p:spPr>
          <a:xfrm>
            <a:off x="533520" y="0"/>
            <a:ext cx="8020080" cy="6010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8360" y="6156360"/>
            <a:ext cx="901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from one dog; each pt is a heart beat; displayed in 15 sec inc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ue pts are baseline; Red pts are after administration of Nitroprus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17880" y="31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93760" y="274320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4031 – Causes QT Prolong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ssociated with T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3:00:07Z</dcterms:created>
  <dc:creator>Kimberly S Crimin</dc:creator>
  <dc:description/>
  <dc:language>en-US</dc:language>
  <cp:lastModifiedBy>Kimberly S Crimin</cp:lastModifiedBy>
  <dcterms:modified xsi:type="dcterms:W3CDTF">2005-08-08T11:18:35Z</dcterms:modified>
  <cp:revision>92</cp:revision>
  <dc:subject/>
  <dc:title>Dynamic Modeling of Beat-to-Beat QT-RR Data Using the Bootstrap</dc:title>
</cp:coreProperties>
</file>