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1.wmf" ContentType="image/x-wmf"/>
  <Override PartName="/ppt/media/image26.png" ContentType="image/png"/>
  <Override PartName="/ppt/media/image6.wmf" ContentType="image/x-wmf"/>
  <Override PartName="/ppt/media/image29.wmf" ContentType="image/x-wmf"/>
  <Override PartName="/ppt/media/image5.wmf" ContentType="image/x-wmf"/>
  <Override PartName="/ppt/media/image28.wmf" ContentType="image/x-wmf"/>
  <Override PartName="/ppt/media/image7.wmf" ContentType="image/x-wmf"/>
  <Override PartName="/ppt/media/image32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8.wmf" ContentType="image/x-wmf"/>
  <Override PartName="/ppt/media/image13.wmf" ContentType="image/x-wmf"/>
  <Override PartName="/ppt/media/image9.wmf" ContentType="image/x-wmf"/>
  <Override PartName="/ppt/media/image3.png" ContentType="image/png"/>
  <Override PartName="/ppt/media/image33.png" ContentType="image/png"/>
  <Override PartName="/ppt/media/image16.wmf" ContentType="image/x-wmf"/>
  <Override PartName="/ppt/media/image10.wmf" ContentType="image/x-wmf"/>
  <Override PartName="/ppt/media/image2.png" ContentType="image/png"/>
  <Override PartName="/ppt/media/image25.png" ContentType="image/png"/>
  <Override PartName="/ppt/media/image34.wmf" ContentType="image/x-wmf"/>
  <Override PartName="/ppt/media/image4.wmf" ContentType="image/x-wmf"/>
  <Override PartName="/ppt/media/image31.wmf" ContentType="image/x-wmf"/>
  <Override PartName="/ppt/media/image1.wmf" ContentType="image/x-wmf"/>
  <Override PartName="/ppt/media/image14.wmf" ContentType="image/x-wmf"/>
  <Override PartName="/ppt/media/image15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295C0-C8A7-4D65-8A40-021AF7F149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11360" y="399960"/>
            <a:ext cx="77724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57080"/>
            <a:ext cx="7772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05080"/>
            <a:ext cx="7772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5A9DA-2923-48F4-A4E0-5252005EE4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11360" y="399960"/>
            <a:ext cx="77724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57080"/>
            <a:ext cx="3792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657080"/>
            <a:ext cx="3792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3792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05080"/>
            <a:ext cx="3792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ED35F-DCEB-48C6-9ABD-62D3ABC333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11360" y="399960"/>
            <a:ext cx="77724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657080"/>
            <a:ext cx="25023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657080"/>
            <a:ext cx="25023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657080"/>
            <a:ext cx="25023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05080"/>
            <a:ext cx="25023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05080"/>
            <a:ext cx="25023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05080"/>
            <a:ext cx="25023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53EBE-0533-410C-99A3-5AB6C2888B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11360" y="399960"/>
            <a:ext cx="77724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657080"/>
            <a:ext cx="7772400" cy="46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8846E-66A9-46E9-A8B0-F0107BE9C9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11360" y="399960"/>
            <a:ext cx="77724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57080"/>
            <a:ext cx="77724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0F012-2680-42F9-8144-349BFA1E3F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11360" y="399960"/>
            <a:ext cx="77724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657080"/>
            <a:ext cx="37926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657080"/>
            <a:ext cx="37926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7021E-C474-4B2E-B47C-4B335E702A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11360" y="399960"/>
            <a:ext cx="77724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A7DA0-7A5F-4CA7-AB05-5D7DC5153D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11360" y="399960"/>
            <a:ext cx="7772400" cy="47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51078-A767-412E-AB99-EB336039A1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11360" y="399960"/>
            <a:ext cx="77724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657080"/>
            <a:ext cx="3792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657080"/>
            <a:ext cx="37926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3792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C9B60-10D2-4050-9C6E-6CD35EBF59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11360" y="399960"/>
            <a:ext cx="77724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657080"/>
            <a:ext cx="37926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657080"/>
            <a:ext cx="3792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05080"/>
            <a:ext cx="3792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981DB-7EA1-47BF-9240-E9557D48E2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11360" y="399960"/>
            <a:ext cx="77724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657080"/>
            <a:ext cx="3792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657080"/>
            <a:ext cx="3792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7772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8FCD1-3E1A-4A62-A8EB-1F5E9718A1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1360" y="399960"/>
            <a:ext cx="7772400" cy="1028880"/>
          </a:xfrm>
          <a:prstGeom prst="rect">
            <a:avLst/>
          </a:prstGeom>
          <a:gradFill rotWithShape="0">
            <a:gsLst>
              <a:gs pos="0">
                <a:srgbClr val="2f2f46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57080"/>
            <a:ext cx="77724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Font typeface="ZapfDingbat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047760" y="6458040"/>
            <a:ext cx="29718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October 2000 S-PLUS con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5ECFF-B047-477C-AB06-6ABA3AB4F163}" type="slidenum"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152280" y="6248520"/>
            <a:ext cx="2057400" cy="609480"/>
            <a:chOff x="152280" y="6248520"/>
            <a:chExt cx="2057400" cy="609480"/>
          </a:xfrm>
        </p:grpSpPr>
        <p:sp>
          <p:nvSpPr>
            <p:cNvPr id="5" name=""/>
            <p:cNvSpPr/>
            <p:nvPr/>
          </p:nvSpPr>
          <p:spPr>
            <a:xfrm>
              <a:off x="152280" y="6553080"/>
              <a:ext cx="2057400" cy="3049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iometrics Research</a:t>
              </a:r>
              <a:endParaRPr b="0" lang="en-US" sz="12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pic>
          <p:nvPicPr>
            <p:cNvPr id="6" name="" descr=""/>
            <p:cNvPicPr/>
            <p:nvPr/>
          </p:nvPicPr>
          <p:blipFill>
            <a:blip r:embed="rId2"/>
            <a:stretch/>
          </p:blipFill>
          <p:spPr>
            <a:xfrm>
              <a:off x="152280" y="6248520"/>
              <a:ext cx="1557360" cy="3492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609480" y="2514600"/>
            <a:ext cx="8128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Bill Pikounis</a:t>
            </a:r>
            <a:br>
              <a:rPr sz="2800"/>
            </a:b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Bert Gunter</a:t>
            </a:r>
            <a:br>
              <a:rPr sz="2800"/>
            </a:b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Andy Liaw</a:t>
            </a:r>
            <a:br>
              <a:rPr sz="2800"/>
            </a:b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Neeraj Pajni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9900"/>
                </a:solidFill>
                <a:latin typeface="Arial"/>
              </a:rPr>
              <a:t>Merck Research Laboratories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S-PLUS Users Conference</a:t>
            </a:r>
            <a:br>
              <a:rPr sz="2400"/>
            </a:b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October 19, 2000</a:t>
            </a:r>
            <a:br>
              <a:rPr sz="2400"/>
            </a:b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Seattle, WA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761760" y="228600"/>
            <a:ext cx="7746840" cy="2114640"/>
          </a:xfrm>
          <a:prstGeom prst="rect">
            <a:avLst/>
          </a:prstGeom>
          <a:gradFill rotWithShape="0">
            <a:gsLst>
              <a:gs pos="0">
                <a:srgbClr val="2f2f46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Verdana"/>
              </a:rPr>
              <a:t>Automated Analysis Software for Screening Using S-PLUS StatServer</a:t>
            </a:r>
            <a:endParaRPr b="0" lang="en-US" sz="36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11360" y="399960"/>
            <a:ext cx="7772400" cy="1028880"/>
          </a:xfrm>
          <a:prstGeom prst="rect">
            <a:avLst/>
          </a:prstGeom>
          <a:gradFill rotWithShape="0">
            <a:gsLst>
              <a:gs pos="0">
                <a:srgbClr val="2f2f46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Verdana"/>
              </a:rPr>
              <a:t>The Challenge</a:t>
            </a:r>
            <a:endParaRPr b="0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657080"/>
            <a:ext cx="77724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Identify true “hits” (outliers)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Provide quality control (QC) tools to help monitor assay “health,” identify problems, determine plates that require retesting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Do above with interface that scientists with little formal statistical knowledge and even less statistical tolerance can use on their own.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67E68-B3B9-486B-A4C9-68D43646751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11360" y="399960"/>
            <a:ext cx="7772400" cy="1028880"/>
          </a:xfrm>
          <a:prstGeom prst="rect">
            <a:avLst/>
          </a:prstGeom>
          <a:gradFill rotWithShape="0">
            <a:gsLst>
              <a:gs pos="0">
                <a:srgbClr val="2f2f46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Verdana"/>
              </a:rPr>
              <a:t>A New Paradigm: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Verdana"/>
              </a:rPr>
              <a:t>“Safe Statistics”</a:t>
            </a:r>
            <a:endParaRPr b="0" lang="en-US" sz="32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657080"/>
            <a:ext cx="77724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Safe Statistics are statistical strategies that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Produce useful answers “most” of the time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Indicate when answers may not be useful 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Have “adequate” performance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ZapfDingbat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Computational time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ZapfDingbat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Data size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ZapfDingbat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Numerical Quality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Handle missing values and other data problems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Are tuned to user skill level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8F6C6-A680-4F52-9276-3C0C92C63EB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11360" y="399960"/>
            <a:ext cx="7772400" cy="1028880"/>
          </a:xfrm>
          <a:prstGeom prst="rect">
            <a:avLst/>
          </a:prstGeom>
          <a:gradFill rotWithShape="0">
            <a:gsLst>
              <a:gs pos="0">
                <a:srgbClr val="2f2f46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Verdana"/>
              </a:rPr>
              <a:t>In Practice, This Means …</a:t>
            </a:r>
            <a:endParaRPr b="0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657080"/>
            <a:ext cx="77724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Graphics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Well designed User Interface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Resistant methods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Fewest assumptions possible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Nonparametric procedures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Use of subject matter knowledge whenever possible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BAA65-2798-41BD-8FAB-5FC3E43EF54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11360" y="228600"/>
            <a:ext cx="7772400" cy="1200240"/>
          </a:xfrm>
          <a:prstGeom prst="rect">
            <a:avLst/>
          </a:prstGeom>
          <a:gradFill rotWithShape="0">
            <a:gsLst>
              <a:gs pos="0">
                <a:srgbClr val="2f2f46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Verdana"/>
              </a:rPr>
              <a:t>The HTS StatServer System:</a:t>
            </a:r>
            <a:br>
              <a:rPr sz="3600"/>
            </a:br>
            <a:r>
              <a:rPr b="0" lang="en-US" sz="3600" spc="-1" strike="noStrike">
                <a:solidFill>
                  <a:srgbClr val="ffff99"/>
                </a:solidFill>
                <a:latin typeface="Verdana"/>
              </a:rPr>
              <a:t>Screen Shots of GUI</a:t>
            </a:r>
            <a:endParaRPr b="0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6248520" cy="313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04333-6FC0-4FCA-A53D-0F7C01C95F9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11360" y="371520"/>
            <a:ext cx="7772400" cy="1085760"/>
          </a:xfrm>
          <a:prstGeom prst="rect">
            <a:avLst/>
          </a:prstGeom>
          <a:gradFill rotWithShape="0">
            <a:gsLst>
              <a:gs pos="0">
                <a:srgbClr val="2f2f46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cc00"/>
            </a:solidFill>
            <a:miter/>
          </a:ln>
        </p:spPr>
        <p:txBody>
          <a:bodyPr lIns="118440" rIns="118440" tIns="75240" bIns="75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6096240" cy="2408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ACEF5-5D26-4B52-9685-E4667E9F913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11360" y="399960"/>
            <a:ext cx="7772400" cy="1028880"/>
          </a:xfrm>
          <a:prstGeom prst="rect">
            <a:avLst/>
          </a:prstGeom>
          <a:gradFill rotWithShape="0">
            <a:gsLst>
              <a:gs pos="0">
                <a:srgbClr val="2f2f46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Verdana"/>
              </a:rPr>
              <a:t>Comments</a:t>
            </a:r>
            <a:endParaRPr b="0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657080"/>
            <a:ext cx="77724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Simple, clean, flexible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Fill-in-the-blanks with defaults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Selectable ranges provide pseudo zoom capability to control level of detail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All outputs have clickable links to allow users to download graphs and tables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75A2D-5E09-46CC-B4AE-16873C8F694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11360" y="399960"/>
            <a:ext cx="7772400" cy="1028880"/>
          </a:xfrm>
          <a:prstGeom prst="rect">
            <a:avLst/>
          </a:prstGeom>
          <a:gradFill rotWithShape="0">
            <a:gsLst>
              <a:gs pos="0">
                <a:srgbClr val="2f2f46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Verdana"/>
              </a:rPr>
              <a:t>Output</a:t>
            </a:r>
            <a:endParaRPr b="0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657080"/>
            <a:ext cx="77724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Main hit summary(data tables are also output)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286000" y="2286000"/>
            <a:ext cx="5181480" cy="4002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80916-7F6D-4A63-A3ED-02105BE599E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11360" y="399960"/>
            <a:ext cx="7772400" cy="1028880"/>
          </a:xfrm>
          <a:prstGeom prst="rect">
            <a:avLst/>
          </a:prstGeom>
          <a:gradFill rotWithShape="0">
            <a:gsLst>
              <a:gs pos="0">
                <a:srgbClr val="2f2f46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Verdana"/>
              </a:rPr>
              <a:t>Hit Summary Plots</a:t>
            </a:r>
            <a:endParaRPr b="0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657080"/>
            <a:ext cx="77724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Flag potential problems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438280" y="2209680"/>
            <a:ext cx="5027760" cy="388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96B7D-5BDD-48AC-8196-356DB083EF5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11360" y="399960"/>
            <a:ext cx="7772400" cy="1028880"/>
          </a:xfrm>
          <a:prstGeom prst="rect">
            <a:avLst/>
          </a:prstGeom>
          <a:gradFill rotWithShape="0">
            <a:gsLst>
              <a:gs pos="0">
                <a:srgbClr val="2f2f46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657080"/>
            <a:ext cx="77724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Suspect patterns in rows or columns by either criteria ?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895480" y="2133720"/>
            <a:ext cx="5561280" cy="429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CAC63-5146-4E89-A709-C544D7CAC6D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11360" y="399960"/>
            <a:ext cx="7772400" cy="1028880"/>
          </a:xfrm>
          <a:prstGeom prst="rect">
            <a:avLst/>
          </a:prstGeom>
          <a:gradFill rotWithShape="0">
            <a:gsLst>
              <a:gs pos="0">
                <a:srgbClr val="2f2f46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657080"/>
            <a:ext cx="77724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Display hit pattern over plate sequence using gray scaling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33520" y="2895480"/>
            <a:ext cx="4038480" cy="25146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4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EDF57-9150-4ED0-9CD3-2D4C6C310A4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11360" y="399960"/>
            <a:ext cx="7772400" cy="1028880"/>
          </a:xfrm>
          <a:prstGeom prst="rect">
            <a:avLst/>
          </a:prstGeom>
          <a:gradFill rotWithShape="0">
            <a:gsLst>
              <a:gs pos="0">
                <a:srgbClr val="2f2f46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Verdana"/>
              </a:rPr>
              <a:t>Outline</a:t>
            </a:r>
            <a:endParaRPr b="0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57080"/>
            <a:ext cx="77724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Background of Pharmaceutical Screening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New Paradigm: Safe Statistics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Demo of HTS StatServer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More on StatServer Approaches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The Initiative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Error Handling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Usage Accounting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Closing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1F6D1-1A0A-4AD9-99E5-F24F62B26D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11360" y="399960"/>
            <a:ext cx="7772400" cy="1028880"/>
          </a:xfrm>
          <a:prstGeom prst="rect">
            <a:avLst/>
          </a:prstGeom>
          <a:gradFill rotWithShape="0">
            <a:gsLst>
              <a:gs pos="0">
                <a:srgbClr val="2f2f46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Verdana"/>
              </a:rPr>
              <a:t>Note ...</a:t>
            </a:r>
            <a:endParaRPr b="0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657080"/>
            <a:ext cx="77724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Safe Statistics paradigm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Clear results provided via the graphs, but diagnostic flags also raised.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Next set of “QC” plots will make source of problems clear.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6EAE5-DEF7-4311-BEE4-BCD239AE340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11360" y="399960"/>
            <a:ext cx="7772400" cy="1028880"/>
          </a:xfrm>
          <a:prstGeom prst="rect">
            <a:avLst/>
          </a:prstGeom>
          <a:gradFill rotWithShape="0">
            <a:gsLst>
              <a:gs pos="0">
                <a:srgbClr val="2f2f46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Verdana"/>
              </a:rPr>
              <a:t>QC Plots</a:t>
            </a:r>
            <a:endParaRPr b="0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657080"/>
            <a:ext cx="77724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Average” Sample and Control Levels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905120" y="2133720"/>
            <a:ext cx="5715000" cy="430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F5CF2-A4EA-4D58-B243-D1ABDFD5D06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11360" y="399960"/>
            <a:ext cx="7772400" cy="1028880"/>
          </a:xfrm>
          <a:prstGeom prst="rect">
            <a:avLst/>
          </a:prstGeom>
          <a:gradFill rotWithShape="0">
            <a:gsLst>
              <a:gs pos="0">
                <a:srgbClr val="2f2f46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793880" y="1657440"/>
            <a:ext cx="5554800" cy="46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292F4-670B-433D-934E-131E3E4C87D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11360" y="399960"/>
            <a:ext cx="7772400" cy="1028880"/>
          </a:xfrm>
          <a:prstGeom prst="rect">
            <a:avLst/>
          </a:prstGeom>
          <a:gradFill rotWithShape="0">
            <a:gsLst>
              <a:gs pos="0">
                <a:srgbClr val="2f2f46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Verdana"/>
              </a:rPr>
              <a:t>Note ...</a:t>
            </a:r>
            <a:endParaRPr b="0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657080"/>
            <a:ext cx="77724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Outliers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Plate 2 for controls (recall hit plots)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Plate 1 for samples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+ others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Superimposed smooths guide the eye (smooth()) -- much sophistication under the surface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Jumps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Annotation (dates, run ID’s) to stimulate subject matter knowledge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05B8F-B831-49AD-B879-97DB8D6F2E6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11360" y="399960"/>
            <a:ext cx="7772400" cy="1028880"/>
          </a:xfrm>
          <a:prstGeom prst="rect">
            <a:avLst/>
          </a:prstGeom>
          <a:gradFill rotWithShape="0">
            <a:gsLst>
              <a:gs pos="0">
                <a:srgbClr val="2f2f46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Verdana"/>
              </a:rPr>
              <a:t>CV Plot – Overall Quality Summary</a:t>
            </a:r>
            <a:endParaRPr b="0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657080"/>
            <a:ext cx="77724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(after correction for positional effects)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209680" y="2209680"/>
            <a:ext cx="5256360" cy="4062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2517C-DABB-4AED-9093-7276B2E271D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11360" y="399960"/>
            <a:ext cx="7772400" cy="1028880"/>
          </a:xfrm>
          <a:prstGeom prst="rect">
            <a:avLst/>
          </a:prstGeom>
          <a:gradFill rotWithShape="0">
            <a:gsLst>
              <a:gs pos="0">
                <a:srgbClr val="2f2f46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Verdana"/>
              </a:rPr>
              <a:t>Boxplots of Row/Column Effects</a:t>
            </a:r>
            <a:endParaRPr b="0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657080"/>
            <a:ext cx="77724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(Only row effects shown)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981080" y="2209680"/>
            <a:ext cx="5561280" cy="4221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C1F3C-3B37-4755-8097-CC1601DF1A5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11360" y="399960"/>
            <a:ext cx="7772400" cy="1028880"/>
          </a:xfrm>
          <a:prstGeom prst="rect">
            <a:avLst/>
          </a:prstGeom>
          <a:gradFill rotWithShape="0">
            <a:gsLst>
              <a:gs pos="0">
                <a:srgbClr val="2f2f46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Verdana"/>
              </a:rPr>
              <a:t>Over Plate Sequence...</a:t>
            </a:r>
            <a:endParaRPr b="0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657080"/>
            <a:ext cx="77724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Requires color coding – trades off numeric precisions for “gestalt” of assay dynamics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752480" y="2590920"/>
            <a:ext cx="578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6F5DF-3FCD-4815-AFBA-BAF68BDD986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11360" y="399960"/>
            <a:ext cx="7772400" cy="1028880"/>
          </a:xfrm>
          <a:prstGeom prst="rect">
            <a:avLst/>
          </a:prstGeom>
          <a:gradFill rotWithShape="0">
            <a:gsLst>
              <a:gs pos="0">
                <a:srgbClr val="2f2f46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Verdana"/>
              </a:rPr>
              <a:t>User Can Plot Subset of Plates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Verdana"/>
              </a:rPr>
              <a:t> for All Plots</a:t>
            </a:r>
            <a:endParaRPr b="0" lang="en-US" sz="32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657080"/>
            <a:ext cx="77724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E.g., before and after plate 20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04920" y="2362320"/>
            <a:ext cx="4343400" cy="33526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4952880" y="2438280"/>
            <a:ext cx="3962520" cy="320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4A5F5-7AD0-4185-ABA7-18D37C59AEE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11360" y="399960"/>
            <a:ext cx="7772400" cy="1028880"/>
          </a:xfrm>
          <a:prstGeom prst="rect">
            <a:avLst/>
          </a:prstGeom>
          <a:gradFill rotWithShape="0">
            <a:gsLst>
              <a:gs pos="0">
                <a:srgbClr val="2f2f46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Verdana"/>
              </a:rPr>
              <a:t>Visualizing Individual Plates</a:t>
            </a:r>
            <a:endParaRPr b="0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657080"/>
            <a:ext cx="77724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Highest level of detail – individual wells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For raw data, fits, or residuals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Trellis displays: Ranges of plates in rectangular matrix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Ranges and layout specified from menu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Can extend over several “pages” if necessary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Example: Plates 41 on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60261-B62A-47D7-888B-EE127C909D7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11360" y="399960"/>
            <a:ext cx="7772400" cy="1028880"/>
          </a:xfrm>
          <a:prstGeom prst="rect">
            <a:avLst/>
          </a:prstGeom>
          <a:gradFill rotWithShape="0">
            <a:gsLst>
              <a:gs pos="0">
                <a:srgbClr val="2f2f46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Verdana"/>
              </a:rPr>
              <a:t>Trellis Plate Displays</a:t>
            </a:r>
            <a:endParaRPr b="0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6064200" cy="468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5C7D5-7A28-47FB-B0FB-68A03235FC7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11360" y="371520"/>
            <a:ext cx="7772400" cy="1085760"/>
          </a:xfrm>
          <a:prstGeom prst="rect">
            <a:avLst/>
          </a:prstGeom>
          <a:gradFill rotWithShape="0">
            <a:gsLst>
              <a:gs pos="0">
                <a:srgbClr val="2f2f46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cc00"/>
            </a:solidFill>
            <a:miter/>
          </a:ln>
        </p:spPr>
        <p:txBody>
          <a:bodyPr lIns="118440" rIns="118440" tIns="75240" bIns="75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57080"/>
            <a:ext cx="77724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How new drugs are discovered: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1. Determine biology of  disease process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2. Develop </a:t>
            </a:r>
            <a:r>
              <a:rPr b="0" i="1" lang="en-US" sz="2400" spc="-1" strike="noStrike">
                <a:solidFill>
                  <a:srgbClr val="ff9900"/>
                </a:solidFill>
                <a:latin typeface="Arial"/>
              </a:rPr>
              <a:t>in vitro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assays that simulate process and measure effects of test compounds on the process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3. Use automated testing to rapidly screen large numbers (~10</a:t>
            </a:r>
            <a:r>
              <a:rPr b="0" lang="en-US" sz="2400" spc="-1" strike="noStrike" baseline="30000">
                <a:solidFill>
                  <a:srgbClr val="ff99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- 10</a:t>
            </a:r>
            <a:r>
              <a:rPr b="0" lang="en-US" sz="2400" spc="-1" strike="noStrike" baseline="30000">
                <a:solidFill>
                  <a:srgbClr val="ff99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) of tiny amounts (10</a:t>
            </a:r>
            <a:r>
              <a:rPr b="0" lang="en-US" sz="2400" spc="-1" strike="noStrike" baseline="30000">
                <a:solidFill>
                  <a:srgbClr val="ff9900"/>
                </a:solidFill>
                <a:latin typeface="Arial"/>
              </a:rPr>
              <a:t>-12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moles) of compounds for activity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9900"/>
              </a:buClr>
              <a:buFont typeface="ZapfDingbat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-so-called compound “libraries”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4. Select active “hits” for further testing, study, and development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70497-1FD9-4A7C-BE0C-1C92F594C1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11360" y="399960"/>
            <a:ext cx="7772400" cy="1028880"/>
          </a:xfrm>
          <a:prstGeom prst="rect">
            <a:avLst/>
          </a:prstGeom>
          <a:gradFill rotWithShape="0">
            <a:gsLst>
              <a:gs pos="0">
                <a:srgbClr val="2f2f46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538280" y="1657440"/>
            <a:ext cx="6067440" cy="46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98C54-4A32-4397-BC05-3120659AFD9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11360" y="399960"/>
            <a:ext cx="7772400" cy="1028880"/>
          </a:xfrm>
          <a:prstGeom prst="rect">
            <a:avLst/>
          </a:prstGeom>
          <a:gradFill rotWithShape="0">
            <a:gsLst>
              <a:gs pos="0">
                <a:srgbClr val="2f2f46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Verdana"/>
              </a:rPr>
              <a:t>Note ...</a:t>
            </a:r>
            <a:endParaRPr b="0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657080"/>
            <a:ext cx="77724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Enables users to “drill down”  to individual results based on earlier plots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Another instance of the “safe statistics” paradigm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analysis should naturally lead to progressively more useful and detailed results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7DD09-FB1E-416F-B6FE-77A27790E55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11360" y="399960"/>
            <a:ext cx="7772400" cy="1028880"/>
          </a:xfrm>
          <a:prstGeom prst="rect">
            <a:avLst/>
          </a:prstGeom>
          <a:gradFill rotWithShape="0">
            <a:gsLst>
              <a:gs pos="0">
                <a:srgbClr val="2f2f46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Verdana"/>
              </a:rPr>
              <a:t>Comment ...</a:t>
            </a:r>
            <a:endParaRPr b="0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657080"/>
            <a:ext cx="77724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These anomalies were not detected  by researchers who ran the assays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Had a dramatic effect on the way the conducted their assays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68B0F-ABF6-448C-9CC1-3AFC4B3783C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11360" y="399960"/>
            <a:ext cx="7772400" cy="1028880"/>
          </a:xfrm>
          <a:prstGeom prst="rect">
            <a:avLst/>
          </a:prstGeom>
          <a:gradFill rotWithShape="0">
            <a:gsLst>
              <a:gs pos="0">
                <a:srgbClr val="2f2f46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Verdana"/>
              </a:rPr>
              <a:t>Remarks</a:t>
            </a:r>
            <a:endParaRPr b="0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657080"/>
            <a:ext cx="77724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For &lt; 10 statisticians to effectively service ~3000 scientists drowning in data, traditional 1-1 collaboration is out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Safe Statistics”: Useful, user-friendly data analysis software targeted at key applications and distributed via computer infrastructure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S-Plus and StatServer provide an effective development and implementation environment to do this – it works!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399BF-11F4-4CD8-B62A-CB2AD83ADCC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28880"/>
          </a:xfrm>
          <a:prstGeom prst="rect">
            <a:avLst/>
          </a:prstGeom>
          <a:gradFill rotWithShape="0">
            <a:gsLst>
              <a:gs pos="0">
                <a:srgbClr val="2f2f46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Verdana"/>
              </a:rPr>
              <a:t>The StatServer initiative</a:t>
            </a:r>
            <a:endParaRPr b="0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Cornerstone of Biometrics Research operations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cf. previous, esp. “safe statistics” concepts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457200" y="2666880"/>
            <a:ext cx="5791320" cy="40230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6400800" y="2819520"/>
            <a:ext cx="2743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400800" y="2819520"/>
            <a:ext cx="251460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Book Antiqua"/>
              </a:rPr>
              <a:t>Reliable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Book Antiqua"/>
              </a:rPr>
              <a:t>Good Interfaces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Book Antiqua"/>
              </a:rPr>
              <a:t>Visual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Book Antiqua"/>
              </a:rPr>
              <a:t>Customer focus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Book Antiqua"/>
              </a:rPr>
              <a:t>Maintainable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Book Antiqua"/>
              </a:rPr>
              <a:t>Expandable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Book Antiqua"/>
              </a:rPr>
              <a:t>Measurable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Book Antiqua"/>
              </a:rPr>
              <a:t>Validated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99CD1-012A-43E7-906E-EC560B01F7B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876600"/>
          </a:xfrm>
          <a:prstGeom prst="rect">
            <a:avLst/>
          </a:prstGeom>
          <a:gradFill rotWithShape="0">
            <a:gsLst>
              <a:gs pos="0">
                <a:srgbClr val="2f2f46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Verdana"/>
              </a:rPr>
              <a:t>Architecture </a:t>
            </a:r>
            <a:br>
              <a:rPr sz="3600"/>
            </a:b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(adapted from manual: Bajuk, 1999)</a:t>
            </a:r>
            <a:endParaRPr b="0" lang="en-US" sz="18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2209680" y="1219320"/>
            <a:ext cx="4469040" cy="518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16EB1-0B25-49B2-9A60-87456809F04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028880"/>
          </a:xfrm>
          <a:prstGeom prst="rect">
            <a:avLst/>
          </a:prstGeom>
          <a:gradFill rotWithShape="0">
            <a:gsLst>
              <a:gs pos="0">
                <a:srgbClr val="2f2f46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Verdana"/>
              </a:rPr>
              <a:t>HTS Module</a:t>
            </a:r>
            <a:endParaRPr b="0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531800" y="1454040"/>
            <a:ext cx="6240600" cy="4946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630B1-A9B5-4FC4-B157-C38F07EBBBE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11360" y="399960"/>
            <a:ext cx="7772400" cy="1028880"/>
          </a:xfrm>
          <a:prstGeom prst="rect">
            <a:avLst/>
          </a:prstGeom>
          <a:gradFill rotWithShape="0">
            <a:gsLst>
              <a:gs pos="0">
                <a:srgbClr val="2f2f46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Verdana"/>
              </a:rPr>
              <a:t>Error Handling</a:t>
            </a:r>
            <a:endParaRPr b="0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657080"/>
            <a:ext cx="77724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Philosophy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ost errors arise from incorrect input formatting of uploaded file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PREVENTION: Need to trap errors as soon as possible along these three tiers: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9900"/>
              </a:buClr>
              <a:buFont typeface="ZapfDingbat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interface input field validation (JavaScript)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9900"/>
              </a:buClr>
              <a:buFont typeface="ZapfDingbat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VB Script level  (Input / Output Handling)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9900"/>
              </a:buClr>
              <a:buFont typeface="ZapfDingbat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-PLUS level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Error messages polite and informative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9900"/>
              </a:buClr>
              <a:buFont typeface="ZapfDingbat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Guide towards user self correction, but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9900"/>
              </a:buClr>
              <a:buFont typeface="ZapfDingbat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Biometrics always available for help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lvl="2" marL="11084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7619A-23A7-45B5-ACA6-1C8ECDAC78D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11360" y="399960"/>
            <a:ext cx="7772400" cy="1028880"/>
          </a:xfrm>
          <a:prstGeom prst="rect">
            <a:avLst/>
          </a:prstGeom>
          <a:gradFill rotWithShape="0">
            <a:gsLst>
              <a:gs pos="0">
                <a:srgbClr val="2f2f46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Verdana"/>
              </a:rPr>
              <a:t>Error Handling</a:t>
            </a:r>
            <a:endParaRPr b="0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734000" cy="330516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6019920" y="2895480"/>
            <a:ext cx="2590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Topics in Guidance Help facility and HTS Web Tree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8BB74-DC6D-4CD3-AB50-791A984CC09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11360" y="399960"/>
            <a:ext cx="7772400" cy="1028880"/>
          </a:xfrm>
          <a:prstGeom prst="rect">
            <a:avLst/>
          </a:prstGeom>
          <a:gradFill rotWithShape="0">
            <a:gsLst>
              <a:gs pos="0">
                <a:srgbClr val="2f2f46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Verdana"/>
              </a:rPr>
              <a:t>Error Handling: 3-tier approach</a:t>
            </a:r>
            <a:endParaRPr b="0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657080"/>
            <a:ext cx="77724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Input Field Validation Level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Checks are made and the appropriate error messages are launched at the time the submit button is pushed to run the analysis on the dialog box.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447920" y="3352680"/>
            <a:ext cx="6352920" cy="296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19846-2BAB-4BAD-859F-A6F532BCFA2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11360" y="399960"/>
            <a:ext cx="7772400" cy="1028880"/>
          </a:xfrm>
          <a:prstGeom prst="rect">
            <a:avLst/>
          </a:prstGeom>
          <a:gradFill rotWithShape="0">
            <a:gsLst>
              <a:gs pos="0">
                <a:srgbClr val="2f2f46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Verdana"/>
              </a:rPr>
              <a:t>$$</a:t>
            </a:r>
            <a:endParaRPr b="0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57080"/>
            <a:ext cx="77724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Several years and hundreds of millions of dollars later if you’re very lucky and very good, you’ll have a drug on the market.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ED00B-4A43-445E-9EA9-5126253AF0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11360" y="399960"/>
            <a:ext cx="7772400" cy="1028880"/>
          </a:xfrm>
          <a:prstGeom prst="rect">
            <a:avLst/>
          </a:prstGeom>
          <a:gradFill rotWithShape="0">
            <a:gsLst>
              <a:gs pos="0">
                <a:srgbClr val="2f2f46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Verdana"/>
              </a:rPr>
              <a:t>Error Handling (cont.)</a:t>
            </a:r>
            <a:endParaRPr b="0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657080"/>
            <a:ext cx="77724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VB Script level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6981840" cy="43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3A085-7C74-4B09-B8E0-1337E44C057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11360" y="399960"/>
            <a:ext cx="7772400" cy="1028880"/>
          </a:xfrm>
          <a:prstGeom prst="rect">
            <a:avLst/>
          </a:prstGeom>
          <a:gradFill rotWithShape="0">
            <a:gsLst>
              <a:gs pos="0">
                <a:srgbClr val="2f2f46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Verdana"/>
              </a:rPr>
              <a:t>Error Handling (cont.)</a:t>
            </a:r>
            <a:endParaRPr b="0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657080"/>
            <a:ext cx="77724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905120" y="1752480"/>
            <a:ext cx="5419440" cy="4638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BCAC0-7730-42BB-B3A4-800F98D1124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11360" y="399960"/>
            <a:ext cx="7772400" cy="1028880"/>
          </a:xfrm>
          <a:prstGeom prst="rect">
            <a:avLst/>
          </a:prstGeom>
          <a:gradFill rotWithShape="0">
            <a:gsLst>
              <a:gs pos="0">
                <a:srgbClr val="2f2f46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Verdana"/>
              </a:rPr>
              <a:t>Error Handling: S-PLUS level</a:t>
            </a:r>
            <a:endParaRPr b="0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657080"/>
            <a:ext cx="77724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6234120" cy="352584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553080" y="2666880"/>
            <a:ext cx="25909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Book Antiqua"/>
              </a:rPr>
              <a:t>Adapt:</a:t>
            </a:r>
            <a:br>
              <a:rPr sz="2400"/>
            </a:br>
            <a:r>
              <a:rPr b="0" lang="en-US" sz="2400" spc="-1" strike="noStrike">
                <a:solidFill>
                  <a:srgbClr val="ff9900"/>
                </a:solidFill>
                <a:latin typeface="Courier New"/>
              </a:rPr>
              <a:t>stop(),</a:t>
            </a:r>
            <a:br>
              <a:rPr sz="2400"/>
            </a:br>
            <a:r>
              <a:rPr b="0" lang="en-US" sz="2400" spc="-1" strike="noStrike">
                <a:solidFill>
                  <a:srgbClr val="ff9900"/>
                </a:solidFill>
                <a:latin typeface="Courier New"/>
              </a:rPr>
              <a:t>dump.calls()</a:t>
            </a:r>
            <a:r>
              <a:rPr b="0" lang="en-US" sz="2400" spc="-1" strike="noStrike">
                <a:solidFill>
                  <a:srgbClr val="ff9900"/>
                </a:solidFill>
                <a:latin typeface="Book Antiqua"/>
              </a:rPr>
              <a:t> and </a:t>
            </a:r>
            <a:r>
              <a:rPr b="0" lang="en-US" sz="2400" spc="-1" strike="noStrike">
                <a:solidFill>
                  <a:srgbClr val="ff9900"/>
                </a:solidFill>
                <a:latin typeface="Courier New"/>
              </a:rPr>
              <a:t>traceback()</a:t>
            </a:r>
            <a:r>
              <a:rPr b="0" lang="en-US" sz="2400" spc="-1" strike="noStrike">
                <a:solidFill>
                  <a:srgbClr val="ff99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Book Antiqua"/>
              </a:rPr>
              <a:t>functionality of S-PLUS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6D518-0D7E-411E-B9E1-534F5460DA2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11360" y="399960"/>
            <a:ext cx="7772400" cy="1028880"/>
          </a:xfrm>
          <a:prstGeom prst="rect">
            <a:avLst/>
          </a:prstGeom>
          <a:gradFill rotWithShape="0">
            <a:gsLst>
              <a:gs pos="0">
                <a:srgbClr val="2f2f46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Verdana"/>
              </a:rPr>
              <a:t>Error Handling: S-PLUS level</a:t>
            </a:r>
            <a:endParaRPr b="0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685800" y="1657440"/>
            <a:ext cx="7772400" cy="46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3AE86-8676-455E-82BB-8831AC33514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11360" y="399960"/>
            <a:ext cx="7772400" cy="1028880"/>
          </a:xfrm>
          <a:prstGeom prst="rect">
            <a:avLst/>
          </a:prstGeom>
          <a:gradFill rotWithShape="0">
            <a:gsLst>
              <a:gs pos="0">
                <a:srgbClr val="2f2f46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Verdana"/>
              </a:rPr>
              <a:t>Error Handling (cont.)</a:t>
            </a:r>
            <a:endParaRPr b="0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657080"/>
            <a:ext cx="77724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E-mail notification (simple subject line) sent to BR StatServer support every time an error occurs</a:t>
            </a:r>
            <a:br>
              <a:rPr sz="2800"/>
            </a:b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8458200" cy="2509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61B99-22D8-409F-8BE2-2146882C484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028880"/>
          </a:xfrm>
          <a:prstGeom prst="rect">
            <a:avLst/>
          </a:prstGeom>
          <a:gradFill rotWithShape="0">
            <a:gsLst>
              <a:gs pos="0">
                <a:srgbClr val="2f2f46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Verdana"/>
              </a:rPr>
              <a:t>Error Handling (cont.)</a:t>
            </a:r>
            <a:endParaRPr b="0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24868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Example sequence (3 tries)</a:t>
            </a:r>
            <a:br>
              <a:rPr sz="2800"/>
            </a:b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Error in htsPrepare.data.frame(htsdfr): Required columns not present or wrong column names</a:t>
            </a:r>
            <a:br>
              <a:rPr sz="1400"/>
            </a:b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Error in score.hts(htsdfr): 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********** Bad Plate Indexing ***********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The following plate numbers appear more than once in the data: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PLATE NUMBER    Total Wells in Data with This Plate Number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AR000408103001          192</a:t>
            </a:r>
            <a:br>
              <a:rPr sz="1400"/>
            </a:b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Error in htsPrepare.data.frame(htsdfr): Plate(s) 1, 2, 3, 4, 5, 6, 7, 8, 9, 10, 11, 12, 13, 14, 15, 16, 17, 18, 19, 20, 21, 22, 23, 24, 25, 26, 27, 28, 29, 30, 31, 32, 33, 34, 35, 36, 37, 38, 39 have no control/blank wells.</a:t>
            </a:r>
            <a:br>
              <a:rPr sz="1400"/>
            </a:b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THEN SUCCESS on the 4th try!! by the user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FFFDF-473E-414B-A539-5400774DD64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11360" y="399960"/>
            <a:ext cx="7772400" cy="1028880"/>
          </a:xfrm>
          <a:prstGeom prst="rect">
            <a:avLst/>
          </a:prstGeom>
          <a:gradFill rotWithShape="0">
            <a:gsLst>
              <a:gs pos="0">
                <a:srgbClr val="2f2f46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Verdana"/>
              </a:rPr>
              <a:t>Usage Accounting</a:t>
            </a:r>
            <a:endParaRPr b="0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2486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Reasons</a:t>
            </a:r>
            <a:br>
              <a:rPr sz="2800"/>
            </a:b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Quantitative Measure of Breadth and Depth of use across Merck Research Labs</a:t>
            </a:r>
            <a:br>
              <a:rPr sz="2400"/>
            </a:b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Monitor Performance of System</a:t>
            </a:r>
            <a:br>
              <a:rPr sz="2400"/>
            </a:b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5965C-0F9B-4AE8-9693-24442740620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11360" y="399960"/>
            <a:ext cx="7772400" cy="1028880"/>
          </a:xfrm>
          <a:prstGeom prst="rect">
            <a:avLst/>
          </a:prstGeom>
          <a:gradFill rotWithShape="0">
            <a:gsLst>
              <a:gs pos="0">
                <a:srgbClr val="2f2f46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Verdana"/>
              </a:rPr>
              <a:t>Usage Accounting</a:t>
            </a:r>
            <a:endParaRPr b="0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657080"/>
            <a:ext cx="777240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Recall StatServer Client-Server Architecture…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Measurements of time, size, input parameters, outputs, etc are collected and stored in StatServer internal database on every transaction run.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33520" y="49528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INITIAL ANALYTIC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581280" y="43434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QCPLOT ANALYTIC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581280" y="510552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IMAGEPLOT ANALYTIC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581280" y="579132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COREPLOT ANALYTIC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2209680" y="4571640"/>
            <a:ext cx="1295640" cy="685800"/>
          </a:xfrm>
          <a:prstGeom prst="line">
            <a:avLst/>
          </a:prstGeom>
          <a:ln w="1260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09680" y="5334120"/>
            <a:ext cx="1295640" cy="0"/>
          </a:xfrm>
          <a:prstGeom prst="line">
            <a:avLst/>
          </a:prstGeom>
          <a:ln w="1260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09680" y="5486400"/>
            <a:ext cx="1295640" cy="533520"/>
          </a:xfrm>
          <a:prstGeom prst="line">
            <a:avLst/>
          </a:prstGeom>
          <a:ln w="1260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81069-5156-4C0F-BDEC-B83400A15B0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76240"/>
          </a:xfrm>
          <a:prstGeom prst="rect">
            <a:avLst/>
          </a:prstGeom>
          <a:gradFill rotWithShape="0">
            <a:gsLst>
              <a:gs pos="0">
                <a:srgbClr val="2f2f46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Verdana"/>
              </a:rPr>
              <a:t>Usage Accounting</a:t>
            </a:r>
            <a:endParaRPr b="0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4952880" y="3352680"/>
            <a:ext cx="3810240" cy="9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rcRect l="9091" t="0" r="9091" b="0"/>
          <a:stretch/>
        </p:blipFill>
        <p:spPr>
          <a:xfrm>
            <a:off x="0" y="1204920"/>
            <a:ext cx="5985000" cy="565308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5486400" y="4419720"/>
            <a:ext cx="3657600" cy="10087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ff9900"/>
                </a:solidFill>
                <a:latin typeface="Courier New"/>
              </a:rPr>
              <a:t>QUARTILES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Courier New"/>
              </a:rPr>
              <a:t>Mean  .25  .50  .75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Courier New"/>
              </a:rPr>
              <a:t>10.94 5.0  8.0 16.0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5880" y="25909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Jun 22 - Oct 6 period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1DB42-BCE4-4B49-A0C1-A5E8C785C7F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876240"/>
          </a:xfrm>
          <a:prstGeom prst="rect">
            <a:avLst/>
          </a:prstGeom>
          <a:gradFill rotWithShape="0">
            <a:gsLst>
              <a:gs pos="0">
                <a:srgbClr val="2f2f46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Verdana"/>
              </a:rPr>
              <a:t>Usage Accounting</a:t>
            </a:r>
            <a:endParaRPr b="0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7315200" cy="565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6B550-6A59-4EE6-8A90-E1A62D32B04C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11360" y="399960"/>
            <a:ext cx="7772400" cy="1028880"/>
          </a:xfrm>
          <a:prstGeom prst="rect">
            <a:avLst/>
          </a:prstGeom>
          <a:gradFill rotWithShape="0">
            <a:gsLst>
              <a:gs pos="0">
                <a:srgbClr val="2f2f46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Verdana"/>
              </a:rPr>
              <a:t>Test Formats</a:t>
            </a:r>
            <a:endParaRPr b="0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57080"/>
            <a:ext cx="77724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HTS assays usually run  in ~ 3" by 4" plastic plates with rectangular arrays of wells 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8 x 12 = 96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16 x 24 = 384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32 x 48 = 1536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48 x 72 = 3456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Some wells used as “controls” (typically at sides); others get test samples 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FD799-667D-4355-BF4A-07E696A5B8B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876240"/>
          </a:xfrm>
          <a:prstGeom prst="rect">
            <a:avLst/>
          </a:prstGeom>
          <a:gradFill rotWithShape="0">
            <a:gsLst>
              <a:gs pos="0">
                <a:srgbClr val="2f2f46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Verdana"/>
              </a:rPr>
              <a:t>Usage Accounting: Speed</a:t>
            </a:r>
            <a:endParaRPr b="0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rcRect l="9091" t="0" r="9091" b="0"/>
          <a:stretch/>
        </p:blipFill>
        <p:spPr>
          <a:xfrm>
            <a:off x="1295280" y="1244520"/>
            <a:ext cx="5943600" cy="561348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6400800" y="1447920"/>
            <a:ext cx="2438280" cy="1191240"/>
          </a:xfrm>
          <a:prstGeom prst="borderCallout1">
            <a:avLst>
              <a:gd name="adj1" fmla="val 18750"/>
              <a:gd name="adj2" fmla="val -8333"/>
              <a:gd name="adj3" fmla="val 80087"/>
              <a:gd name="adj4" fmla="val -37625"/>
            </a:avLst>
          </a:prstGeom>
          <a:solidFill>
            <a:srgbClr val="0000ff"/>
          </a:solidFill>
          <a:ln w="255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Book Antiqua"/>
              </a:rPr>
              <a:t>Sep 13 troubleshooting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00AA4-3AA2-45E4-9BEB-93F7E5EE7D6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28840"/>
          </a:xfrm>
          <a:prstGeom prst="rect">
            <a:avLst/>
          </a:prstGeom>
          <a:gradFill rotWithShape="0">
            <a:gsLst>
              <a:gs pos="0">
                <a:srgbClr val="2f2f46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Verdana"/>
              </a:rPr>
              <a:t>Unique Data Sets / Users</a:t>
            </a:r>
            <a:br>
              <a:rPr sz="3600"/>
            </a:br>
            <a:r>
              <a:rPr b="0" lang="en-US" sz="3600" spc="-1" strike="noStrike">
                <a:solidFill>
                  <a:srgbClr val="ffff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Verdana"/>
              </a:rPr>
              <a:t>Jun 22 - Oct 6 period</a:t>
            </a:r>
            <a:endParaRPr b="0" lang="en-US" sz="2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DATA SETS: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157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Courier New"/>
              </a:rPr>
              <a:t>RY SD NW MF TP CIBE 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ourier New"/>
              </a:rPr>
              <a:t>      </a:t>
            </a:r>
            <a:r>
              <a:rPr b="0" lang="en-US" sz="2800" spc="-1" strike="noStrike">
                <a:solidFill>
                  <a:srgbClr val="ff9900"/>
                </a:solidFill>
                <a:latin typeface="Courier New"/>
              </a:rPr>
              <a:t>81  1  5 22 29   19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USERS: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41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Courier New"/>
              </a:rPr>
              <a:t>RY SD NW MF TP CIBE 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Courier New"/>
              </a:rPr>
              <a:t>22  1  2  4  6    6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9900"/>
                </a:solidFill>
                <a:latin typeface="Arial"/>
              </a:rPr>
              <a:t>More work is needed to sharpen accuracy (better filter out duplicates, artificial runs)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8DA56-4345-477C-8D42-E3AE7ACD87FF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rcRect l="9091" t="0" r="9091" b="0"/>
          <a:stretch/>
        </p:blipFill>
        <p:spPr>
          <a:xfrm>
            <a:off x="838080" y="1219320"/>
            <a:ext cx="5943600" cy="561312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1028880"/>
          </a:xfrm>
          <a:prstGeom prst="rect">
            <a:avLst/>
          </a:prstGeom>
          <a:gradFill rotWithShape="0">
            <a:gsLst>
              <a:gs pos="0">
                <a:srgbClr val="2f2f46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Verdana"/>
              </a:rPr>
              <a:t>QC Analytic Usage</a:t>
            </a:r>
            <a:endParaRPr b="0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514600" y="23623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Book Antiqua"/>
              </a:rPr>
              <a:t>118 unique instances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83F36-7354-42C6-91A0-FFF95BCBE462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11360" y="399960"/>
            <a:ext cx="7772400" cy="1028880"/>
          </a:xfrm>
          <a:prstGeom prst="rect">
            <a:avLst/>
          </a:prstGeom>
          <a:gradFill rotWithShape="0">
            <a:gsLst>
              <a:gs pos="0">
                <a:srgbClr val="2f2f46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Verdana"/>
              </a:rPr>
              <a:t>Performance Evaluation of Runs</a:t>
            </a:r>
            <a:endParaRPr b="0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1066680" y="1828800"/>
            <a:ext cx="701064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PRELIMINARY INPUT  (Prelim)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14800" y="2438280"/>
            <a:ext cx="762120" cy="533520"/>
          </a:xfrm>
          <a:prstGeom prst="downArrow">
            <a:avLst>
              <a:gd name="adj1" fmla="val 50000"/>
              <a:gd name="adj2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3124080"/>
            <a:ext cx="701064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S-PLUS PROCESSING  (S+)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114800" y="3733920"/>
            <a:ext cx="762120" cy="533160"/>
          </a:xfrm>
          <a:prstGeom prst="downArrow">
            <a:avLst>
              <a:gd name="adj1" fmla="val 50000"/>
              <a:gd name="adj2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066680" y="4495680"/>
            <a:ext cx="701064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STATSERVER PROCESSING  (SSV)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114800" y="5105520"/>
            <a:ext cx="762120" cy="533160"/>
          </a:xfrm>
          <a:prstGeom prst="downArrow">
            <a:avLst>
              <a:gd name="adj1" fmla="val 50000"/>
              <a:gd name="adj2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066680" y="5791320"/>
            <a:ext cx="701064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RENDERING OUTPUT  (Render)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F42BE-9387-4D86-9CA7-CEFE94B83386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876240"/>
          </a:xfrm>
          <a:prstGeom prst="rect">
            <a:avLst/>
          </a:prstGeom>
          <a:gradFill rotWithShape="0">
            <a:gsLst>
              <a:gs pos="0">
                <a:srgbClr val="2f2f46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Verdana"/>
              </a:rPr>
              <a:t>Performance Evaluation</a:t>
            </a:r>
            <a:endParaRPr b="0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rcRect l="9091" t="0" r="9091" b="0"/>
          <a:stretch/>
        </p:blipFill>
        <p:spPr>
          <a:xfrm>
            <a:off x="685800" y="955800"/>
            <a:ext cx="6248520" cy="5902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96897-C34D-48F5-BB88-5BC69EA91FA3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876240"/>
          </a:xfrm>
          <a:prstGeom prst="rect">
            <a:avLst/>
          </a:prstGeom>
          <a:gradFill rotWithShape="0">
            <a:gsLst>
              <a:gs pos="0">
                <a:srgbClr val="2f2f46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Verdana"/>
              </a:rPr>
              <a:t>Performance Evaluation</a:t>
            </a:r>
            <a:endParaRPr b="0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1600200" y="1327320"/>
          <a:ext cx="5219640" cy="553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327320"/>
                    <a:ext cx="5219640" cy="55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"/>
          <p:cNvSpPr/>
          <p:nvPr/>
        </p:nvSpPr>
        <p:spPr>
          <a:xfrm>
            <a:off x="6324480" y="1676520"/>
            <a:ext cx="2438640" cy="1191240"/>
          </a:xfrm>
          <a:prstGeom prst="borderCallout1">
            <a:avLst>
              <a:gd name="adj1" fmla="val 18750"/>
              <a:gd name="adj2" fmla="val -8333"/>
              <a:gd name="adj3" fmla="val 80087"/>
              <a:gd name="adj4" fmla="val -37620"/>
            </a:avLst>
          </a:prstGeom>
          <a:solidFill>
            <a:srgbClr val="0000ff"/>
          </a:solidFill>
          <a:ln w="255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Book Antiqua"/>
              </a:rPr>
              <a:t>Sep 13 troubleshooting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67675-2DCB-466B-8AB6-FC288CCE3A4D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11360" y="-360"/>
            <a:ext cx="7772400" cy="971640"/>
          </a:xfrm>
          <a:prstGeom prst="rect">
            <a:avLst/>
          </a:prstGeom>
          <a:gradFill rotWithShape="0">
            <a:gsLst>
              <a:gs pos="0">
                <a:srgbClr val="2f2f46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Verdana"/>
              </a:rPr>
              <a:t>Closing</a:t>
            </a:r>
            <a:endParaRPr b="0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71136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Presentation covered several aspects of </a:t>
            </a:r>
            <a:br>
              <a:rPr sz="2800"/>
            </a:b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S-PLUS StatServer flexibility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9900"/>
                </a:solidFill>
                <a:latin typeface="Arial"/>
              </a:rPr>
              <a:t>Its Modular Architecture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3121200" y="2914560"/>
          <a:ext cx="306216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1200" y="2914560"/>
                    <a:ext cx="306216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3352680" y="33148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Opportunities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35240" y="5143680"/>
            <a:ext cx="22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Solutions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486400" y="474336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Credibility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46376-3176-483D-9274-C23E7A84A2D9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1360" y="399960"/>
            <a:ext cx="7772400" cy="1028880"/>
          </a:xfrm>
          <a:prstGeom prst="rect">
            <a:avLst/>
          </a:prstGeom>
          <a:gradFill rotWithShape="0">
            <a:gsLst>
              <a:gs pos="0">
                <a:srgbClr val="2f2f46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Verdana"/>
              </a:rPr>
              <a:t>Schematic of 96 Well Plate</a:t>
            </a:r>
            <a:endParaRPr b="0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57080"/>
            <a:ext cx="77724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828800" y="2362320"/>
            <a:ext cx="5562720" cy="3855960"/>
            <a:chOff x="1828800" y="2362320"/>
            <a:chExt cx="5562720" cy="3855960"/>
          </a:xfrm>
        </p:grpSpPr>
        <p:grpSp>
          <p:nvGrpSpPr>
            <p:cNvPr id="56" name=""/>
            <p:cNvGrpSpPr/>
            <p:nvPr/>
          </p:nvGrpSpPr>
          <p:grpSpPr>
            <a:xfrm>
              <a:off x="1828800" y="2362320"/>
              <a:ext cx="5562720" cy="3855960"/>
              <a:chOff x="1828800" y="2362320"/>
              <a:chExt cx="5562720" cy="3855960"/>
            </a:xfrm>
          </p:grpSpPr>
          <p:grpSp>
            <p:nvGrpSpPr>
              <p:cNvPr id="57" name=""/>
              <p:cNvGrpSpPr/>
              <p:nvPr/>
            </p:nvGrpSpPr>
            <p:grpSpPr>
              <a:xfrm>
                <a:off x="2004480" y="2949480"/>
                <a:ext cx="5211000" cy="416520"/>
                <a:chOff x="2004480" y="2949480"/>
                <a:chExt cx="5211000" cy="41652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2004480" y="2949480"/>
                  <a:ext cx="353520" cy="38340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2465640" y="2973600"/>
                  <a:ext cx="353160" cy="38304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2883240" y="2972160"/>
                  <a:ext cx="353520" cy="38340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3334680" y="2972160"/>
                  <a:ext cx="353160" cy="38340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3783960" y="2972160"/>
                  <a:ext cx="353520" cy="38340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4235400" y="2972160"/>
                  <a:ext cx="353160" cy="38340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4696560" y="2972160"/>
                  <a:ext cx="353520" cy="38340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5136480" y="2982600"/>
                  <a:ext cx="353520" cy="38340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5587560" y="2982600"/>
                  <a:ext cx="353520" cy="38340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6015240" y="2982600"/>
                  <a:ext cx="353160" cy="38340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6444360" y="2982600"/>
                  <a:ext cx="353160" cy="38340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6861960" y="2982600"/>
                  <a:ext cx="353520" cy="38340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" name=""/>
              <p:cNvGrpSpPr/>
              <p:nvPr/>
            </p:nvGrpSpPr>
            <p:grpSpPr>
              <a:xfrm>
                <a:off x="1982160" y="3391920"/>
                <a:ext cx="5210280" cy="416880"/>
                <a:chOff x="1982160" y="3391920"/>
                <a:chExt cx="5210280" cy="41688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1982160" y="3391920"/>
                  <a:ext cx="353520" cy="38376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2442960" y="3415680"/>
                  <a:ext cx="353520" cy="38376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2860920" y="3414600"/>
                  <a:ext cx="353160" cy="38376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3312000" y="3414600"/>
                  <a:ext cx="353520" cy="38376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3761640" y="3414600"/>
                  <a:ext cx="353520" cy="38376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212720" y="3414600"/>
                  <a:ext cx="353520" cy="38376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4673880" y="3414600"/>
                  <a:ext cx="353520" cy="38376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113800" y="3425040"/>
                  <a:ext cx="353520" cy="38376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565240" y="3425040"/>
                  <a:ext cx="353160" cy="38376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5992560" y="3425040"/>
                  <a:ext cx="353520" cy="38376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6421680" y="3425040"/>
                  <a:ext cx="353520" cy="38376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6839280" y="3425040"/>
                  <a:ext cx="353160" cy="38376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1993320" y="3835080"/>
                <a:ext cx="5210280" cy="416880"/>
                <a:chOff x="1993320" y="3835080"/>
                <a:chExt cx="5210280" cy="41688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1993320" y="3835080"/>
                  <a:ext cx="353520" cy="38376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2454120" y="3858840"/>
                  <a:ext cx="353520" cy="38412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2872080" y="3857760"/>
                  <a:ext cx="353520" cy="38376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3323160" y="3857760"/>
                  <a:ext cx="353520" cy="38376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3772800" y="3857760"/>
                  <a:ext cx="353520" cy="38376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4224240" y="3857760"/>
                  <a:ext cx="353160" cy="38376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4685400" y="3857760"/>
                  <a:ext cx="353160" cy="38376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5125320" y="3868200"/>
                  <a:ext cx="353160" cy="38376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5576400" y="3868200"/>
                  <a:ext cx="353520" cy="38376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6003720" y="3868200"/>
                  <a:ext cx="353520" cy="38376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6432840" y="3868200"/>
                  <a:ext cx="353520" cy="38376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6850440" y="3868200"/>
                  <a:ext cx="353160" cy="38376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2004480" y="4279320"/>
                <a:ext cx="5211000" cy="416880"/>
                <a:chOff x="2004480" y="4279320"/>
                <a:chExt cx="5211000" cy="41688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2004480" y="4279320"/>
                  <a:ext cx="353520" cy="38376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2465640" y="4303080"/>
                  <a:ext cx="353160" cy="38412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2883240" y="4302000"/>
                  <a:ext cx="353520" cy="38376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3334680" y="4302000"/>
                  <a:ext cx="353160" cy="38376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3783960" y="4302000"/>
                  <a:ext cx="353520" cy="38376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4235400" y="4302000"/>
                  <a:ext cx="353160" cy="38376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4696560" y="4302000"/>
                  <a:ext cx="353520" cy="38376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5136480" y="4312440"/>
                  <a:ext cx="353520" cy="38376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5587560" y="4312440"/>
                  <a:ext cx="353520" cy="38376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6015240" y="4312440"/>
                  <a:ext cx="353160" cy="38376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6444360" y="4312440"/>
                  <a:ext cx="353160" cy="38376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6861960" y="4312440"/>
                  <a:ext cx="353520" cy="38376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2004480" y="4722480"/>
                <a:ext cx="5211000" cy="416520"/>
                <a:chOff x="2004480" y="4722480"/>
                <a:chExt cx="5211000" cy="41652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2004480" y="4722480"/>
                  <a:ext cx="353520" cy="38340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2465640" y="4746600"/>
                  <a:ext cx="353160" cy="38304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883240" y="4745160"/>
                  <a:ext cx="353520" cy="38340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3334680" y="4745160"/>
                  <a:ext cx="353160" cy="38340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3783960" y="4745160"/>
                  <a:ext cx="353520" cy="38340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4235400" y="4745160"/>
                  <a:ext cx="353160" cy="38340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4696560" y="4745160"/>
                  <a:ext cx="353520" cy="38340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5136480" y="4755600"/>
                  <a:ext cx="353520" cy="38340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5587560" y="4755600"/>
                  <a:ext cx="353520" cy="38340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6015240" y="4755600"/>
                  <a:ext cx="353160" cy="38340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6444360" y="4755600"/>
                  <a:ext cx="353160" cy="38340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6861960" y="4755600"/>
                  <a:ext cx="353520" cy="38340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2026800" y="5165280"/>
                <a:ext cx="5210280" cy="416880"/>
                <a:chOff x="2026800" y="5165280"/>
                <a:chExt cx="5210280" cy="41688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2026800" y="5165280"/>
                  <a:ext cx="353520" cy="38340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2487600" y="5189040"/>
                  <a:ext cx="353520" cy="38376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2905560" y="5187960"/>
                  <a:ext cx="353160" cy="38376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3356640" y="5187960"/>
                  <a:ext cx="353520" cy="38376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3806280" y="5187960"/>
                  <a:ext cx="353520" cy="38376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4257360" y="5187960"/>
                  <a:ext cx="353520" cy="38376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4718880" y="5187960"/>
                  <a:ext cx="353160" cy="38376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5158800" y="5198400"/>
                  <a:ext cx="353160" cy="38376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5609880" y="5198400"/>
                  <a:ext cx="353520" cy="38376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6037200" y="5198400"/>
                  <a:ext cx="353520" cy="38376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6466320" y="5198400"/>
                  <a:ext cx="353520" cy="38376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6883920" y="5198400"/>
                  <a:ext cx="353160" cy="38376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2026800" y="5609520"/>
                <a:ext cx="5210280" cy="416880"/>
                <a:chOff x="2026800" y="5609520"/>
                <a:chExt cx="5210280" cy="4168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2026800" y="5609520"/>
                  <a:ext cx="353520" cy="38376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2487600" y="5633280"/>
                  <a:ext cx="353520" cy="38376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905560" y="5632200"/>
                  <a:ext cx="353160" cy="38376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356640" y="5632200"/>
                  <a:ext cx="353520" cy="38376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806280" y="5632200"/>
                  <a:ext cx="353520" cy="38376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57360" y="5632200"/>
                  <a:ext cx="353520" cy="38376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718880" y="5632200"/>
                  <a:ext cx="353160" cy="38376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158800" y="5642640"/>
                  <a:ext cx="353160" cy="38376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9880" y="5642640"/>
                  <a:ext cx="353520" cy="38376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37200" y="5642640"/>
                  <a:ext cx="353520" cy="38376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466320" y="5642640"/>
                  <a:ext cx="353520" cy="38376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883920" y="5642640"/>
                  <a:ext cx="353160" cy="38376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2005920" y="2506320"/>
                <a:ext cx="5210640" cy="416880"/>
                <a:chOff x="2005920" y="2506320"/>
                <a:chExt cx="5210640" cy="4168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2005920" y="2506320"/>
                  <a:ext cx="353520" cy="38376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2466720" y="2530080"/>
                  <a:ext cx="353520" cy="38412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884680" y="2529000"/>
                  <a:ext cx="353160" cy="38376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335760" y="2529000"/>
                  <a:ext cx="353520" cy="38376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3785400" y="2529000"/>
                  <a:ext cx="353520" cy="38376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236480" y="2529000"/>
                  <a:ext cx="353520" cy="38376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4697640" y="2529000"/>
                  <a:ext cx="353520" cy="38376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137560" y="2539440"/>
                  <a:ext cx="353520" cy="38376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5589000" y="2539440"/>
                  <a:ext cx="353160" cy="38376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6016320" y="2539440"/>
                  <a:ext cx="353520" cy="38376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6445440" y="2539440"/>
                  <a:ext cx="353520" cy="38376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6863040" y="2539440"/>
                  <a:ext cx="353520" cy="38376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1" name=""/>
              <p:cNvSpPr/>
              <p:nvPr/>
            </p:nvSpPr>
            <p:spPr>
              <a:xfrm>
                <a:off x="1828800" y="2362320"/>
                <a:ext cx="5562720" cy="3855960"/>
              </a:xfrm>
              <a:prstGeom prst="rect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1905120" y="2438640"/>
              <a:ext cx="5410080" cy="3657600"/>
            </a:xfrm>
            <a:prstGeom prst="rect">
              <a:avLst/>
            </a:prstGeom>
            <a:noFill/>
            <a:ln w="381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2209320" y="1523880"/>
            <a:ext cx="4877280" cy="838080"/>
            <a:chOff x="2209320" y="1523880"/>
            <a:chExt cx="4877280" cy="838080"/>
          </a:xfrm>
        </p:grpSpPr>
        <p:sp>
          <p:nvSpPr>
            <p:cNvPr id="164" name=""/>
            <p:cNvSpPr/>
            <p:nvPr/>
          </p:nvSpPr>
          <p:spPr>
            <a:xfrm>
              <a:off x="3886200" y="152388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66"/>
                  </a:solidFill>
                  <a:latin typeface="Times New Roman"/>
                </a:rPr>
                <a:t>controls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209320" y="1752480"/>
              <a:ext cx="1600200" cy="609480"/>
              <a:chOff x="2209320" y="1752480"/>
              <a:chExt cx="1600200" cy="609480"/>
            </a:xfrm>
          </p:grpSpPr>
          <p:sp>
            <p:nvSpPr>
              <p:cNvPr id="166" name=""/>
              <p:cNvSpPr/>
              <p:nvPr/>
            </p:nvSpPr>
            <p:spPr>
              <a:xfrm flipH="1">
                <a:off x="2209320" y="1752480"/>
                <a:ext cx="1600200" cy="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209680" y="1752480"/>
                <a:ext cx="0" cy="60948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5486400" y="1752480"/>
              <a:ext cx="1600200" cy="533160"/>
              <a:chOff x="5486400" y="1752480"/>
              <a:chExt cx="1600200" cy="533160"/>
            </a:xfrm>
          </p:grpSpPr>
          <p:sp>
            <p:nvSpPr>
              <p:cNvPr id="169" name=""/>
              <p:cNvSpPr/>
              <p:nvPr/>
            </p:nvSpPr>
            <p:spPr>
              <a:xfrm>
                <a:off x="5486400" y="1752480"/>
                <a:ext cx="1600200" cy="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086240" y="1752480"/>
                <a:ext cx="0" cy="53316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43B81-56C8-4858-A321-DB2CBEFEC91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11360" y="399960"/>
            <a:ext cx="7772400" cy="1028880"/>
          </a:xfrm>
          <a:prstGeom prst="rect">
            <a:avLst/>
          </a:prstGeom>
          <a:gradFill rotWithShape="0">
            <a:gsLst>
              <a:gs pos="0">
                <a:srgbClr val="2f2f46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Verdana"/>
              </a:rPr>
              <a:t>Enter Statistics</a:t>
            </a:r>
            <a:endParaRPr b="0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657080"/>
            <a:ext cx="77724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Hits” are “outliers”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Most” (&gt;99%) compounds are (relatively) inactive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Identify few active as “outliers”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D8105-E69B-4FD2-9E05-8214B50FD7E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11360" y="399960"/>
            <a:ext cx="7772400" cy="1028880"/>
          </a:xfrm>
          <a:prstGeom prst="rect">
            <a:avLst/>
          </a:prstGeom>
          <a:gradFill rotWithShape="0">
            <a:gsLst>
              <a:gs pos="0">
                <a:srgbClr val="2f2f46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Verdana"/>
              </a:rPr>
              <a:t>Why Isn’t This Trivial ?</a:t>
            </a:r>
            <a:endParaRPr b="0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657080"/>
            <a:ext cx="77724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Assays are not stable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Positional effects within plates (especially “edge” effects)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ZapfDingbat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May change over course of assay run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Mean background response and assay sensitivity may change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ZapfDingbat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Unstable reagents, sample collection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ZapfDingbat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Longer term: Reagent variation, changes in assay conditions, equipment, environment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Assay CV changes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Trends, cycles, and shifts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1D07A-9F97-4DB0-A56B-5D2B2E7454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11360" y="399960"/>
            <a:ext cx="7772400" cy="1028880"/>
          </a:xfrm>
          <a:prstGeom prst="rect">
            <a:avLst/>
          </a:prstGeom>
          <a:gradFill rotWithShape="0">
            <a:gsLst>
              <a:gs pos="0">
                <a:srgbClr val="2f2f46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Verdana"/>
              </a:rPr>
              <a:t>Other Issues</a:t>
            </a:r>
            <a:endParaRPr b="0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657080"/>
            <a:ext cx="77724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Outlier Plates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All values in plate shift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Missing values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sometimes at random, sometimes not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sometimes few or none, sometimes lots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Problems with “controls”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They fail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Positional biases (if they are on outer rows or columns)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9C0E7-DA37-45E9-9A82-61C2DD2E662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9T19:30:19Z</dcterms:created>
  <dc:creator>Bert Gunter</dc:creator>
  <dc:description/>
  <dc:language>en-US</dc:language>
  <cp:lastModifiedBy>Bill Pikounis</cp:lastModifiedBy>
  <cp:lastPrinted>2000-10-12T16:03:31Z</cp:lastPrinted>
  <dcterms:modified xsi:type="dcterms:W3CDTF">2000-10-12T16:05:50Z</dcterms:modified>
  <cp:revision>12</cp:revision>
  <dc:subject/>
  <dc:title>No Slide Title</dc:title>
</cp:coreProperties>
</file>